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E473-8990-40F7-B26E-CEA7A550B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C93-00BD-4991-831D-149222A1D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C1C-C350-40DE-9F87-911E5ABAD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C70D-348B-4B65-AD1B-9556C847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7407F-ABEE-416C-8CB2-4B7A37E6C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A0DD3-D33F-4D03-B997-988F0480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56B27-5F35-4CF0-A61A-B7E4AE16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91B7E-33A6-446E-AB11-28520F8F7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CA86-DB70-4800-AF7B-82FB1A619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94DFF-6DFE-43FC-89B0-D52EFEB2F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05E20-4D75-4693-A83E-2DD2AC3F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F018-4835-4591-85C8-F14A22822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C7F5-8D31-4274-86DE-83695C5B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32AC4-1B9D-4DB7-B1DA-CCB80DAC5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07A4E-D04A-4DA3-8EBC-9C12D3FE1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B121-8E5B-42E6-B274-63224EE12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137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707160" y="194904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203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137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707160" y="3939480"/>
            <a:ext cx="2850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76B78-5D1E-4D69-B14A-BF9844539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8EAB-C476-4C94-B7C5-1A7792CE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30CB-1A75-4B44-B436-9F196904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F9C-6866-4402-A8F0-C1F5779BF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20360" y="684000"/>
            <a:ext cx="8458200" cy="47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2600-CF09-4859-8518-EF022C03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0592-C598-4230-A12F-C6ED41CB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7080" y="393948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A81-8F88-4904-BD55-D472DB29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7080" y="1949040"/>
            <a:ext cx="432036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20360" y="3939480"/>
            <a:ext cx="8853480" cy="18172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55D3-F39D-4C07-B6F3-833238A6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4D6E1-8FCD-476B-A568-53C46FF27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0360" y="684000"/>
            <a:ext cx="8458200" cy="10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0360" y="1949040"/>
            <a:ext cx="885348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88000"/>
          </a:bodyPr>
          <a:p>
            <a:pPr marL="3016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01680" indent="-3016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9640" y="631836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266640" y="634680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31000" y="634680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DC7237-88E1-493B-98DB-94910A621C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oston Tea Pa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720360" y="1994040"/>
            <a:ext cx="8854920" cy="37209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Connor, Tristan, Jocelyn, Destin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o did it happen t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ns Of Lib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nists who supported the colony's free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st India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20360" y="684360"/>
            <a:ext cx="8459640" cy="10238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ppen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20360" y="1949400"/>
            <a:ext cx="8854920" cy="38116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ists disguised themselves as Mohawk Indi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boarded a tea ship from the East India Compan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ured 342 crates of tea into the Boston Harb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68544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did it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ppened on December 16,177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20360" y="728280"/>
            <a:ext cx="8459640" cy="93348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did it happ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ppened in the Boston Waterfro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East India Trading Company's tea 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20360" y="569520"/>
            <a:ext cx="8459640" cy="1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id it happen, and what was the outco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20360" y="1949040"/>
            <a:ext cx="8854920" cy="37213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lonists were furious with the new tax on tea that was part of the Tea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ercive Acts or, named by the colonists, The Intolerable Acts stopped all trade until all the tea was payed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9T12:57:21Z</dcterms:created>
  <dc:creator/>
  <dc:description/>
  <dc:language>en-US</dc:language>
  <cp:lastModifiedBy/>
  <cp:revision>1</cp:revision>
  <dc:subject/>
  <dc:title/>
</cp:coreProperties>
</file>